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3D8-88C0-44E9-A567-90D30B81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B34-98BE-4A9A-B335-ADBBBD0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7A2-A41A-4F1D-BA2C-55A2B2B7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2E1-59A4-4E60-B278-2E20D57A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09D-5E73-4C9F-85B3-5A25303D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51A-9DA0-4032-9C22-F9B6A9B6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61B1-A3EC-41DF-A27F-C5D2AA28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68B-5968-46AF-AE50-7E0B0BD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1617-9FA6-4445-8CDF-708B4E61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E50C-0875-4DEA-9F36-2B54AFF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7A5F-C10A-4AA9-B101-B29D1BB4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B93-DDB2-479B-9619-CE997C25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0BF4-2485-4D28-A7F5-4EF1FF3A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677-13C9-492B-9904-3CFC2CA1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211F-2917-4D05-A2D5-3A47D1A3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2726-3135-441E-B82F-8C011522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5371-6EEA-4573-9062-3B614515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BCB-E9DE-49D0-8F41-D5374687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FDB-4CE8-45E2-A47B-499D0491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9C1-37A8-47EC-BC67-17ECB83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BBF-DC75-4115-B213-F11A8C7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744-31DE-4AB8-AB26-EC7C012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433-D758-484B-A011-A73BECA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BB9-15B4-4D2A-99B1-77FDCD96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103-748E-40F6-BC85-8A46EEDACD32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E68-8CB4-4B52-B1F6-ABB09410A703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3366"/>
                </a:solidFill>
                <a:latin typeface="Arial"/>
              </a:rPr>
              <a:t>توجه الأطر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6666"/>
                </a:solidFill>
                <a:latin typeface="Arial"/>
              </a:rPr>
              <a:t>تقرير المبيعات  السنوي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6666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محتويا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أين توقفنا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أين نحن الآن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المستقبل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تفاصيل المبيعات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التوقعات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3366"/>
                </a:solidFill>
                <a:latin typeface="Arial"/>
              </a:rPr>
              <a:t>مناقش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أين توقفن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منتج أساسي واح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طلاق منتج جديد واح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مداد جديد على الطري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حصة في السوق بنسبة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2362320"/>
          <a:ext cx="37702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362320"/>
                    <a:ext cx="3770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أين نحن الآن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989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منتجي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إطلاق منتج جديد في أكتوبر الماضي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أسيس أسم في مجال التسوي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حصة من السوق تبلغ 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%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نفيذ إطلاق ثلاث منتجات جديدة في الربع التالي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تنمية قوة المبيعات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اكتساب أفضل فريق مبيعات للسن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مستقبل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3366"/>
                </a:solidFill>
                <a:latin typeface="Arial"/>
              </a:rPr>
              <a:t>مع المنتجات الجديدة والمبيعات الحالية، فإنه يتوقع للنمو بالارتفاع  تدريجياً بثبات لسنة قادم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362320"/>
          <a:ext cx="377028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377028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التوقعات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2361960"/>
            <a:ext cx="7631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6666"/>
                </a:solidFill>
                <a:latin typeface="Arial"/>
              </a:rPr>
              <a:t>مناقشة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9:43:34Z</dcterms:created>
  <dc:creator>nccworker</dc:creator>
  <dc:description/>
  <dc:language>en-US</dc:language>
  <cp:lastModifiedBy>Andaleeb</cp:lastModifiedBy>
  <dcterms:modified xsi:type="dcterms:W3CDTF">2004-08-11T17:08:51Z</dcterms:modified>
  <cp:revision>8</cp:revision>
  <dc:subject/>
  <dc:title>Windows Direct</dc:title>
</cp:coreProperties>
</file>